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205B-2067-4888-AE3D-BCAD7715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9FA-58DA-4F3D-B755-5D8409EE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280-CC55-49FB-9E3E-F37934AE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234-D11F-482D-A6CA-586ECFF3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79B-F81D-45C1-8686-48A743C0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404-5E9A-40A3-A6B4-8174FC5E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008-C912-4570-80E6-64243DA5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17C-C1C9-4C9C-83F8-0C453559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5DC-F60F-4E72-9ACE-8AC3DA39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8A8-AD55-4EF6-BFAE-67E9592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996-E30A-4F68-8449-9AF6975C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F7A-AD7D-44B9-A940-E055B339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A25B-8F4D-4D94-8266-382AE2225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808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gate “to be”:  I am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:                 h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193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say:  What’s your name?  Who are you?  Who is t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096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say:  How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say:  What do you like to do?  What does he like to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911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say:  Is he your brother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he your sis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at he is your brother, but that she is your cous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18148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this telling me about 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heisse Anneliese.  Ich bin 13.  Ich spiele Fussball gern.  Ich höre Musik auc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8:29:47Z</dcterms:created>
  <dc:creator>udsd</dc:creator>
  <dc:description/>
  <dc:language>en-US</dc:language>
  <cp:lastModifiedBy>udsd</cp:lastModifiedBy>
  <dcterms:modified xsi:type="dcterms:W3CDTF">2009-05-11T18:59:54Z</dcterms:modified>
  <cp:revision>3</cp:revision>
  <dc:subject/>
  <dc:title>Slide 1</dc:title>
</cp:coreProperties>
</file>